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6C5-14F8-4CAD-99CA-CF358A2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054-5A04-4EBF-8A4C-16A1B1C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AB1-998A-4C49-8C19-301AD814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09B-1F6D-4E4D-AB2F-00CB3AD2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163-F27E-4980-A665-FC38D61D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9C2-42B6-4E16-A310-981411B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293-0FB4-413A-8A38-44AB2D0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333-D6D9-4973-A5D0-ACF5ED34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484-02CC-446F-8896-536776D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E9D-27AB-4500-AE7F-1039050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456-5642-4481-BD80-3F5F959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C58-DCC7-497B-803F-767C403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B5B-E014-4B74-B143-64A1E005297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8.2 Barriers to Health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lth care costs in Canada are rising as the population ages and as new techniques becom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: What services should and should not be or not be paid for by the health care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se Study Page 260 Questions #1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ing able to read and comprehend what doctors tell you about diagnosis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so need to be able to follow complicated medication reg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igma associated with poor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estioning doctors adv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linical language and literatur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In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acilities for People With Disa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Knowledg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chitectural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titude B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in the top quintile are healthier than those in the second quin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wo Tie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ly the elderly and the very poor have access to public health 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ose who can afford to purchase their own health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me offered b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wo Tie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uld a two tier system create another barrier to health 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 is it a sensible way of reducing public health costs and allowing individuals to purchase medical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01:10Z</dcterms:created>
  <dc:creator>Jason</dc:creator>
  <dc:description/>
  <dc:language>en-US</dc:language>
  <cp:lastModifiedBy>Jason</cp:lastModifiedBy>
  <dcterms:modified xsi:type="dcterms:W3CDTF">2011-05-25T15:09:09Z</dcterms:modified>
  <cp:revision>5</cp:revision>
  <dc:subject/>
  <dc:title>8.2 Barriers to Health Care</dc:title>
</cp:coreProperties>
</file>